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8A8-9EBC-4C0B-BCA6-22FE4DB1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3B6-98A2-4305-90D6-62465BC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2FB-29AF-4F02-9609-818231A7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A65-EEE3-42C1-AD68-81601555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EE8-C105-4168-8294-86885B69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D6DC-D516-4D54-A0C2-F97095F0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281D-1006-4B2B-A631-C6D88464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2A3B-5F58-43BE-8217-A8BFF988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FF3D-A9DE-4680-B346-EA88154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26A-8C8A-4F2C-8B0A-93FB159A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2927-57AC-4027-9C3B-EE543ED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8F2-6716-47AC-A09A-D2B02501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956-864F-42C1-9D25-42DD1C9A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3F38-2F84-4C06-9765-B50981EA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2A1-0FFA-4299-959A-91B98A2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739B-1CD0-4185-B068-DE11C8F8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43B-407A-4094-B249-7AA6F891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68B8-3B3B-4CFA-AD83-DC80403A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2D37-E71D-4EC2-8B8D-3CE0CD95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34C2-A83C-4A4F-9164-37B63497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C740-CC99-48AB-AEBE-DBC3AAD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8AE2-F25E-4CC7-94D7-5F7C14BF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157-D07E-4DF8-9797-CA4C1CE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3927-C0FF-404B-B2CB-05B25F9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5B7F-0BED-415F-9B27-E3BCB41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8637-CF1A-48FB-9EA2-BF92432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C75E-F5C3-4E6D-8F91-0624D74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158E-92B6-4705-8CAA-05133B7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9333-9883-4E2B-A6A0-5D06BF38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51A8-08C5-4348-89F4-CB3E24A8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77C0-D871-4C77-BC2A-C6D280C0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5109-9057-4DD8-AAD5-C6008735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40F2-AE3E-4C1F-ACC2-5F8A8482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B86-4335-437B-882F-D154547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53CA-2DF2-43E9-AA8F-E6F8CDB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0A94-466B-423C-AFD7-08CD7F1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FF45-D1E8-45AC-845D-E31203A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A7D6-A211-4C9D-AE39-9C17758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C084-B265-4A26-B7CC-20FEEAD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E508-CF93-42A0-B170-D51A63A0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5F92-689E-4579-A774-D5BF2155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4CAD-BA59-46AF-BEBA-D7FE22E9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49F6-5060-47E8-A3C4-53C16F50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15584-61D7-470E-A509-68B75374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61A-FFD2-4B49-8858-0817C323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E3C8-49E6-40F5-B9EA-F01B963E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DECD-F0E9-44D3-9008-BE2345E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548A-F2BE-45B6-9E17-0B65223A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25E1-F123-4942-AB74-C6761F1D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C66D-47A8-430B-8BB7-895052C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EBCE-E830-44D6-8428-1D1E2C9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4305E-8538-46CF-8ECD-72CA166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BFDC-6270-4297-9CA1-1665D7E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6C00-D2EE-440E-AEDF-9E9E0A9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F1F9-7E2F-4091-8E57-F41F5230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A70-F35F-4C7A-B6B4-AFBE5BE8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935B-9839-48D0-8052-19D587FE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E9E9-BE3C-443F-943E-690CB849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46FD-FAA4-4C79-A893-E7BD6CCD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82C6-10C4-49EE-9426-30AD8F85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40A0-0886-4CF8-85C9-3BA80D1A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7EA54-C329-48E0-BBA7-59AA1713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F223-E228-4B60-B709-425D4DB6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9A339-6D4D-4AC4-8E62-EEB1EBA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8365-63B6-4A7D-9D34-8430F03D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67CE-AE9A-4FB1-A4A9-E0D1607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F92-9A25-46E1-BA3E-80614AF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6F1B-0D51-4B88-8D31-307F7503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7665E-D9CB-4FF8-BEE0-2B665F7D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092D-B2C8-4790-B233-AABD6D88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D3F1C-F341-43C4-B351-8682AFDD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0591-AF03-4EC1-A0AE-241BEE1B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86E8-24BB-4621-9990-A7B2D5E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1D169-6439-4992-B1EC-85D29BF4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04D8-ADDC-47CC-9A96-D1FFDFA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7FE0-B385-438A-B3D0-A439B2C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E2E4E-93E7-4AC3-91A9-90D6CB5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86E-24AE-40FE-BDCE-E94FEF4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6873-A110-484B-A1EE-D5D1B1A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EE0A8-7E35-4561-949F-999DC56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74FF-A67E-4A84-AF8A-CD2702E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A57F-1047-4495-852A-A0A8B07D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8753-58CC-4F92-AF86-B464701F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690-7104-4D37-A443-EB661E73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26D4-8D15-4454-BF64-9BE34B04C69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923-4844-4799-B682-AAFA8DD470A2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97B3-8A9C-4DBF-BF99-67C3F3091C0F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B41-51B5-4DFD-83C7-2CFAF0467B7D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A953-36A6-4014-98A5-6CB62380A81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1097-0D14-4BEA-9CDF-23AD0B4CAF5B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E9B7-7FDC-4220-8650-741E9E05D995}" type="slidenum">
              <a:rPr b="0" lang="en-US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ember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uis Aranet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Joji De Jes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Justin Lucian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red Sor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3 Tea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Jogo_da_velha_-_tic_tac_toe.png"/>
          <p:cNvPicPr/>
          <p:nvPr/>
        </p:nvPicPr>
        <p:blipFill>
          <a:blip r:embed="rId1"/>
          <a:stretch/>
        </p:blipFill>
        <p:spPr>
          <a:xfrm>
            <a:off x="1295280" y="0"/>
            <a:ext cx="6793200" cy="57484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828800" y="56642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ic Tac To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ame Featu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sound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animation!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73e87"/>
                </a:solidFill>
                <a:latin typeface="Candara"/>
              </a:rPr>
              <a:t>EPIC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AI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ic Tac To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The system will run in a windows 32-bit system such as Xp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871560" y="2674800"/>
          <a:ext cx="7408800" cy="2225880"/>
        </p:xfrm>
        <a:graphic>
          <a:graphicData uri="http://schemas.openxmlformats.org/drawingml/2006/table">
            <a:tbl>
              <a:tblPr/>
              <a:tblGrid>
                <a:gridCol w="3090960"/>
                <a:gridCol w="838080"/>
                <a:gridCol w="838080"/>
                <a:gridCol w="838440"/>
                <a:gridCol w="914400"/>
                <a:gridCol w="888840"/>
              </a:tblGrid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++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4260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&amp;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fbf8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98c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98c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4260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bugging &amp; Docu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67b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8280"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82440" rIns="824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82440" marR="82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e3ae"/>
                    </a:solidFill>
                  </a:tcPr>
                </a:tc>
              </a:tr>
            </a:tbl>
          </a:graphicData>
        </a:graphic>
      </p:graphicFrame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howcard Gothic"/>
              </a:rPr>
              <a:t>Tic Tac To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2:51:36Z</dcterms:created>
  <dc:creator>Your User Name</dc:creator>
  <dc:description/>
  <dc:language>en-US</dc:language>
  <cp:lastModifiedBy>Jake</cp:lastModifiedBy>
  <dcterms:modified xsi:type="dcterms:W3CDTF">2011-10-28T05:53:31Z</dcterms:modified>
  <cp:revision>10</cp:revision>
  <dc:subject/>
  <dc:title>Slide 1</dc:title>
</cp:coreProperties>
</file>